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D84C-B2E8-4264-AB4F-FA2850B69FF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E500-0446-495C-890D-CD95AEBE412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зучения 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.В. Соколо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и  группой авторов  в 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974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6CBA-1D1A-421F-AAE6-43C39DADEBF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социальной информатики как  научного знани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A17B-18B8-4637-8B43-0E9769FEF7C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609F-D12E-43D5-A6E2-AD6E8A53D70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учебного курса «Социальная информат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0A8B-F387-4257-A3DD-9087C328C00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еальный ход информат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FE01-2A6D-4334-950B-CF880A46D18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МЕТ И ЗАДАЧИ КУРС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BEA8-5FD2-473E-8887-B33C99A49D9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  вступления  общества  в постиндустриальный  период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34FE-3BD8-4C63-86CD-2A2C654FE05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стельс 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китов А.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компьютерной революции. - М.,199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колова И.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. - М.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C41E-98B6-4532-8304-BB8DA24592A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трудоспособного населения, занятого в сфере услуг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ерий занят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коммуникационной сети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ческий кри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наблюдать человечество из космоса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трономический критерий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1018-1BE8-4DB8-BFF4-519C72CA8F6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щественного развития устойчив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ционным кризи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ружественный интерфей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009E-2F39-4FB1-B250-1D0E28943BC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диатизацию, компьютеризацию и  интеллектуа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4EC2-6838-4D50-9333-6489904FA40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етико-методологические подходы к информатизации общест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кра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уманитар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C1DE-379D-43D9-94A9-1B0A0DBA191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зь информатизации с устойчивым развити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нформационное общество с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ой сферой услу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шено большинства социально-экономических и экологи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информированность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лобальная информатизация позволит сформиро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льный интеллект цивил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особный обеспечить устойчивое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A690-FE79-407C-BAAB-177558875B2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4A8-7A66-47CE-82DB-83F79CAB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C70-F063-46C8-9BB7-572054EC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B9B-B40E-42C5-9830-1A03953D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430-9D55-4E52-84C6-9F7D954E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31B-DE50-40E3-98F1-C667EE98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794-DDB3-4C2C-BB0D-F37E026E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79E-86B9-4E35-B06F-20E43B16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6FD-084A-41E5-A68C-A127DA1E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6DE-CC99-4B25-A394-839D05C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811-751D-4B48-B7E7-A650273C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549-837E-4492-88E3-A72911CC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904-4BAD-42B3-91AF-F9843015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6320-7712-41DE-A53D-C5801E55B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0" y="0"/>
          <a:ext cx="8964720" cy="44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6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0" y="4068720"/>
            <a:ext cx="9144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ОЦИАЛЬНАЯ ИНФОРМАТИК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6114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втор курса: Доктор социолог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.В. Соко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5280" y="1773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мет изучения 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.В. Соколовы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 и  группой авторов  в  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974 г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труктура социальной информатики как  научного знан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0" y="1413000"/>
          <a:ext cx="914400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91440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дачи учебного курса «Социальная информатика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121428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имать реальный ход информатизац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раничив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50920" y="1197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вод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ле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404640"/>
            <a:ext cx="914400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Лекция 1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СОЦИАЛЬНАЯ ИНФОРМАТИК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РЕДМЕТ И ЗАДАЧИ КУРС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162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  вступления  общества  в постиндустриальный  период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50920" y="1413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ан лек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191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стельс М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китов А.И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илософия компьютерной революции. - М.,1991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колова И.В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. - М., 200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79280" y="1557360"/>
            <a:ext cx="861084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276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цент трудоспособного населения, занятого в сфере услуг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ритерий занят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коммуникационной сети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ический критер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ь наблюдать человечество из космо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строномический критерий)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50920" y="1557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1773360"/>
            <a:ext cx="8964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оцессе общественного развития устойчи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ционным кризис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ружественный интерфей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1484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з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едиатизацию, компьютеризацию и  интеллектуализац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ократиче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уманитар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тико-методологические подходы к информатизации обществ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91628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Информационное общество с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ой сферой услу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ишено большинства социально-экономических и экологических пробл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ысокая информированность насе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Глобальная информатизация позволит сформировать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тегральный интеллект цивилиз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пособный обеспечить устойчивое развит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язь информатизации с устойчивым развитием обще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4:54:32Z</dcterms:created>
  <dc:creator>Stepanova</dc:creator>
  <dc:description/>
  <dc:language>en-US</dc:language>
  <cp:lastModifiedBy>LEGION</cp:lastModifiedBy>
  <dcterms:modified xsi:type="dcterms:W3CDTF">2015-04-01T07:48:19Z</dcterms:modified>
  <cp:revision>29</cp:revision>
  <dc:subject/>
  <dc:title>Слайд 1</dc:title>
</cp:coreProperties>
</file>